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2EE-CBE0-40C4-B080-D71236AF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B82-2F5E-4346-B54E-272EB1F0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DB3-7D94-4A2F-A82F-E50DE930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E2D-4A4F-49F7-A6BC-A685E4F5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367-B70D-4B88-ACC2-95DCD057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25E-185A-400F-8F50-5998597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827-A10C-46EE-914D-A6508DCE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F09-9A76-458A-9C40-4E576915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563-CBE2-4F54-874D-468B6C6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C86-83A5-484E-9C1F-F90B1DD5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343-1775-4CE3-8EA9-84B261FF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093-A3FD-4416-AD6E-DDF9967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87FA-57B8-471E-8817-C12A4033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8000" y="1824120"/>
            <a:ext cx="4583160" cy="3278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contrast="6000"/>
          </a:blip>
          <a:srcRect l="0" t="0" r="2143" b="0"/>
          <a:stretch/>
        </p:blipFill>
        <p:spPr>
          <a:xfrm>
            <a:off x="4475160" y="1812960"/>
            <a:ext cx="4572000" cy="334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b. To get a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b. To get a </a:t>
            </a:r>
            <a:r>
              <a:rPr b="0" lang="fr-FR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759" t="0" r="4128" b="0"/>
          <a:stretch/>
        </p:blipFill>
        <p:spPr>
          <a:xfrm>
            <a:off x="106200" y="1773360"/>
            <a:ext cx="4321440" cy="319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3131" r="0" b="0"/>
          <a:stretch/>
        </p:blipFill>
        <p:spPr>
          <a:xfrm>
            <a:off x="4427640" y="1782720"/>
            <a:ext cx="45212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1:48:27Z</dcterms:created>
  <dc:creator>J.E Campagne</dc:creator>
  <dc:description/>
  <dc:language>en-US</dc:language>
  <cp:lastModifiedBy>J.E Campagne</cp:lastModifiedBy>
  <dcterms:modified xsi:type="dcterms:W3CDTF">2005-07-06T14:59:41Z</dcterms:modified>
  <cp:revision>2</cp:revision>
  <dc:subject/>
  <dc:title>Prob. To get a m trigger</dc:title>
</cp:coreProperties>
</file>